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5A48-99C5-4954-993F-1B437FFA7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D196-E086-4DA4-A271-2FA0EE016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889-0769-48DE-94E6-ACD19BDB0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A9F-783E-485D-8EEF-C8C896C1C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4104-E4FF-46C5-94AD-C6D5D283D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28F-9FEF-47ED-91E1-B468A1308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8AEC-FA4B-4C66-B3C6-73400E95B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E79-EA25-4163-AA6C-260BE3FEC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996-4D34-4E3E-A049-83EF66EE5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29730-5CD2-4037-8BF7-507887B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15B98-ED06-41F6-864F-722D2BA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1AE57-4122-4B09-AA56-274A3414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FB924-80B8-4AD9-B649-9CCC055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70534-26D9-4B3A-BC58-4528404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AE23D9-320E-4896-AF6E-B63AEEB9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A33B4-20F1-460F-8310-3F2AED1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4C547-2F57-4431-BD3E-B382FA3F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A5C408-D4AF-4D8C-B30C-A08A3625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33B3D-F40F-47FF-8D75-31ED5A9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8238F-0C12-4057-AB7A-6B1FF3A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C4BC8-B296-4603-B575-28838D4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8FBAF-36E1-4C71-9CC8-74544EA2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96436-EA90-4308-8A4A-3012741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6EE8F-0E69-4335-9A92-6D8D9BC6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F0ABA-A945-4287-88D9-34620E7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49210-5453-475E-BF77-BFF3647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EFF3C-FD8D-42D7-8C79-B87325A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1794A-0FD0-48B1-94D1-1421907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A7F86-BAB5-478C-BB93-67417951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CB87F-B831-4686-BD9A-57888263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E9F51C-1BD2-4E2A-9153-699FDCEB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F36E32-B0BD-457E-A754-D2F3012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B1B25A-21F9-4665-9FC1-134D0243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A63F5A-35AE-426D-BD8D-3088FAB0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2465B-B154-4FAE-8227-47FA29C7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3F2280-251C-449B-BFC8-433A1D33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D0BF25-F1EC-46C1-93E8-71E2F9A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5C9841-51C5-43FA-B39D-724D44E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D889D1-B610-450F-A1D9-E2D63CA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2A028-AC73-41F2-AC26-35067C02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E034F3-C2B3-4186-AA59-81886F09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51B4DF-8349-43C3-88AE-3FBC67A1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2590B4-5A0E-4504-B1F7-6B5FB03D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9F7C85-5818-40E6-9022-D3651208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A8787A-769C-420A-A8D7-6605F94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01CAAC-3217-461B-B728-0444D43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CA253A-F0E0-4705-822D-9CC325BF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C0FCB9-97B4-4A55-B8EA-2AE812E8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49A404-1D67-44D0-8682-08CF81D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4BBA7A-AEC8-4CE8-85CF-2CDA459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5CABA-1F28-4015-84AA-237DED9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8A91C9-D03E-4F72-92BC-137C2CA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045303-91D6-4671-8463-EEAB96E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7FC89D-6BC1-43A7-944D-4549E155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6CCE55-C379-4497-8079-2E5FE9CD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91EC7C-3C33-4D1D-B219-655DBCFB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F5A39-8FC8-45AC-AE56-9468645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DD86B-2AF4-44B7-AA7B-9CB96D0D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3B260-16A3-44CA-9EB3-1EA5C86B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1780-329D-457F-BAA1-BFFF632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BF05-20B0-477B-8758-9C3B04C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F6B08-E51C-45F4-908B-CB66D35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9656F-FD65-4075-A1D4-B64EDF8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0B35-90BC-4159-9D69-FFFA22C3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CC4B0-8950-42DA-BB75-0E9460BD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05FCE-96D6-4EEB-A3CB-5E8C0E4A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FBF35-D122-4904-B16A-3E90F57D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D6D98-9C61-4FF1-B8DF-8DCE0C45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E84D9-98EE-45D0-BEAD-9A6D6B0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ABEEE-BD65-4956-BD96-7F022C26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A8C85-7C74-43C8-87F3-99CFBF49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16C8E-AA2C-4D1C-AB82-3C5EFE1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85AEA-128A-46F4-8793-C1D5275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60D1C-BEC5-4C84-B5D8-7964F9C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DE537-FF40-4E33-8AAC-7FE11CE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A806F-EDAF-45F1-B00E-914CB3C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25CCF-5F77-4539-A814-4BA78A84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FEDDC-B682-42C0-8C34-79EB5E0B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BB3F9-EBBA-4A5F-93EA-7B394F51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E7668-3CEA-40F0-8C6B-6AA6A255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41604-851C-4686-AA89-8639270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3FFDA-9488-42C5-8900-D7D1E449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3B14C-4CE1-4349-B9D6-1C12827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AFCC1-4827-49EA-BA58-6A4DCA97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F3BA3-4E9C-4645-880D-67C6D3E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884E1-1FB2-41D8-AB2D-FBB0553A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68F54-CC97-4A90-9F81-BDED87C1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59E50-905E-440D-9D9B-84C4106D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D5DDC-1358-4BC7-B46D-DD5D1AE2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E36DE-7612-4A3E-82C3-94E21A4E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D916E-CAA2-4362-A80C-DEA70BA8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8042C-03F4-48E7-8BC7-C19341C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80ADD-3137-478A-BBCF-2E85E81A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EA35F-5704-4BF3-8460-8DEB474F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7B8A3-B4B0-46D1-8DE0-4C03AE34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30800-162B-4778-9360-402FEEE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0C7D5-E341-4B23-9F50-3E1912B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7A908-C054-40C5-9EC3-218CA2A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956A7-4D5B-44FA-B2DA-66B960A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A4E8E-F39A-4C05-A481-D198BF3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BA293-6A0B-4D06-86A0-FCBDE06D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50E91-D231-4991-B6A6-7B9579DB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CB508-A354-437C-8657-60C0443C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BDD0C-853C-41E6-87CA-730B6243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9AE12-6BCE-40DD-9428-E60D5A5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6D722-2895-4452-9A6A-F0EC4755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2242A-BB6A-455D-9E86-09CF625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066A1-AF42-4DC0-A40D-AA745CDE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D55F1-2C48-4B21-9358-6D1511D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EADCA-E457-4AC4-BA51-0917113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0C8EA-EDB1-4FED-B20B-FA3947DE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61F67-24F8-4D27-9849-497987C3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D6921-F69F-4106-B08F-E4BD6B1D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D8873-6876-485A-A5C4-C04A1BB9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C0709-9D82-4CAB-8D43-D595644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29988-CF80-4AD0-A3CA-C48ABC3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55D29-329A-4C23-A751-D83111D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90D6C-A818-4943-9DF7-456E0E64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587C4-2F43-46F0-ACFA-CC95C8B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9028B-59D5-4866-A33A-8371CA2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4B971-2AB9-4662-AB8C-01C9DB9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F3A79-E93C-4EED-BDDD-F835E0C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E1ECF-D959-4E3C-98B5-14D869E3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A1F7C-DDAD-4E83-AD14-58B05C6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96E7E-383E-4E1B-84B1-0025C4E1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192A6-CEA6-4B24-8215-80876AC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AA6A0-1400-4CDB-99C2-5E7C5F96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92894-6F03-41F8-BEC3-833E166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FCBE8-E5C8-4BBD-BE26-96B45005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328FE-0E00-48DB-8DE1-C31BFA15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E2490-E2B0-4328-AED7-D06E1B0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35FEE-E922-4F40-92F6-E2F478D0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A5255-0BBA-48B1-AD91-2A948B6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51F15-DD5C-4FF3-A777-346243C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FFC87-107D-42A1-866B-5939D35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C6A96-91F4-4AF9-90F0-BC5404A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3A404-20DE-4FA9-B17F-74EB3377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E4334-941D-4FFF-BB8C-2B703000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008F0-5228-445F-A451-91F21D0D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906268-95F3-431B-815E-BC8866F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24D3F-1C4B-4E1F-9C1A-69439823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F51D-E4C6-473F-B1C0-6AF66DE3A65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653B-7E89-4ADA-B26D-5B8CBABF546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182C-37E4-4417-B720-284ECE7B57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1DBF-90B7-4810-8570-787CD7E742A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AD26-A3E1-4622-BB49-CFDAA34B4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99A1-48CD-4DC7-AC86-183A7C03B1D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3E2-522F-47B6-871E-072DAA988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663-1DD7-48B7-9DC8-9B070624D38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673-EB88-438D-90D6-D934F529C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98A3-481E-41C2-B876-3579CFB8E69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99C-A7E9-4C38-9F80-8C0EED31EFB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E10-EAE5-4B6F-A33D-C816997C1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320-4B91-424F-8840-BBA0E4BD500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7253-9F5B-494E-8D1B-31A2BC83D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C6DC-FC6E-4C02-9277-EF1716FBAF4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B4AB-F7DC-4E91-B289-947B9BE2AE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2D5D-4E08-4B4C-B9BD-0DE3961AC42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2608-1AA8-4120-A96B-3BA60EFFFA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F904-DFDB-4071-B83C-A10A59EAB13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AAA3-4F9A-4617-8497-382DC9724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4706-70C6-4179-A742-786BA2EF47A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59FA-1B16-4A89-8BEF-B9E3F8C34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46784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Opportunities for leveraging with PPP (NAFAKA)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3809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J.Rus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NAFAKA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eans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ject staples value chain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urrently very active rice sector in Kilombero and Mvom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5 Components (in rice sector plan for ma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habilitating value ch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e productivity in the two 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trade and competi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partnerships (ACDI-VOCA, MVIWATA,FIPS, RUDI, C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ing income for vulnerable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ntry point: village level FO: Identify existing or non-exi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o assessment see area for strengthening/develop partnerships: district federated FOS (Apex producer, outgrowers, cooperatives in crop prod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ther-Baby Trials: variety, fertilizer (YAR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grodeal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ost-harvest: Storage, warehouse receipt systems; SAC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arkets (Kibaigwa):  Local assembly, central, bargaining, finance/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5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vestock:  FIPS Chicken vaccinations but sto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-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Baby trials no fertilizer. Mother trials use fertilizer YARA , Minjingu P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Comparative advantage of the CGIAR agricultural systems production research; Contractors (ACDI, Abt) in value ch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rogram document/work plan of AR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SAID wants the two types of implementers to cooperate: Which project goes the credit for the value chain work (not counting twice), once for each pro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valuation is in two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1 Technologies per se using a GxEXMXLX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CTs to go beyond plot level rando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2 delivery value chain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Quasi-experimental approaches (befor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after interventions and with and without interventions i.e. differenc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differences; propensity score matching; Instrumental Variabl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sess the value added NAFAKA/ABT/DAI with and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thout technologies from the CGIARs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fference can be attributed to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alue chain work/agricultural production systems research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209680" y="5638680"/>
            <a:ext cx="838440" cy="419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914400" y="61722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2971800" y="6019920"/>
            <a:ext cx="905040" cy="59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4"/>
          <a:stretch/>
        </p:blipFill>
        <p:spPr>
          <a:xfrm>
            <a:off x="3886200" y="6019920"/>
            <a:ext cx="1219320" cy="519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logo-new"/>
          <p:cNvPicPr/>
          <p:nvPr/>
        </p:nvPicPr>
        <p:blipFill>
          <a:blip r:embed="rId5"/>
          <a:stretch/>
        </p:blipFill>
        <p:spPr>
          <a:xfrm>
            <a:off x="6400800" y="5410080"/>
            <a:ext cx="79704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"/>
          <p:cNvPicPr/>
          <p:nvPr/>
        </p:nvPicPr>
        <p:blipFill>
          <a:blip r:embed="rId6"/>
          <a:stretch/>
        </p:blipFill>
        <p:spPr>
          <a:xfrm>
            <a:off x="152280" y="5638680"/>
            <a:ext cx="1133640" cy="534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5181480" y="5334120"/>
            <a:ext cx="1089000" cy="129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8"/>
          <a:stretch/>
        </p:blipFill>
        <p:spPr>
          <a:xfrm>
            <a:off x="7162920" y="563868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3T11:32:23Z</dcterms:modified>
  <cp:revision>867</cp:revision>
  <dc:subject/>
  <dc:title>PowerPoint Presentation</dc:title>
</cp:coreProperties>
</file>